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017-DA5A-4411-83CB-8CFF3BA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06A-408F-446D-8B0B-A545891F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843-5B4E-4E39-8702-E5348E40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2D9-C2EF-4721-9C91-459DC76D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FB1B-C4B8-4FF1-987B-00EA1FDA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111-D3F7-4B9B-B5DD-BFC0B84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E67-82E3-451B-B287-C8F54F5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13CB-3687-468E-817F-821C53D8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1501-95AC-4933-9C20-7977F61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9F6E-A1B5-4BC0-B430-E781290F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CA2-665C-414D-8166-9CF869E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357-4ABF-42B7-949E-590926E4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F39-7E84-4992-B901-C90BF4C1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7F8-E005-437A-90AD-2AE7D29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4CB-3FBC-4E5B-9E76-FBEF08C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F4B-1E17-41C0-9AF7-F99BF47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8F69-77C8-4FA5-86C8-298C4C39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FA3-3D41-4493-874F-703163A5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509-7056-4DC3-80E9-14C1DFB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89D-B84B-41BE-91F5-53F6244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7DA-84FE-4AE1-B2D2-99B8F07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22A-2CD5-4893-A10B-25D5B4F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CCB-5DB1-4FDF-9B25-9074A58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752-A85F-4A0B-A1F9-88FA026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2CF-0A14-46AE-8F98-4A618B9CC57F}" type="slidenum">
              <a:rPr b="0" lang="sr-Latn-C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FA09-3971-4ECF-A3C2-C3DA4246EBAC}" type="slidenum">
              <a:rPr b="0" lang="sr-Latn-C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71543_brcko1-foto-youtube_or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6"/>
          <p:cNvGraphicFramePr/>
          <p:nvPr/>
        </p:nvGraphicFramePr>
        <p:xfrm>
          <a:off x="3780000" y="0"/>
          <a:ext cx="13683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0"/>
                    <a:ext cx="13683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971640" y="177336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THE GOVERNMENT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BRČKO DISTRICT OF B&amp;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FLOODS 201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4652640"/>
            <a:ext cx="7632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by landslid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67,525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landsl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1" descr="051543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DSC_1245"/>
          <p:cNvPicPr/>
          <p:nvPr/>
        </p:nvPicPr>
        <p:blipFill>
          <a:blip r:embed="rId1"/>
          <a:stretch/>
        </p:blipFill>
        <p:spPr>
          <a:xfrm>
            <a:off x="539640" y="155736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DSC_1321"/>
          <p:cNvPicPr/>
          <p:nvPr/>
        </p:nvPicPr>
        <p:blipFill>
          <a:blip r:embed="rId2"/>
          <a:stretch/>
        </p:blipFill>
        <p:spPr>
          <a:xfrm>
            <a:off x="4859280" y="1557360"/>
            <a:ext cx="388944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sanacija klizista satorovoci 624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3905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habilitation of landsli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D of B&amp;H Budget: BAM 3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poplave-u-bih-brcko-od-sinoc-odsjeceno-od-ostatka-zemlje_0_18876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4508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472392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Economic damages: BAM 4,043,000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damag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ies, equipment, products and raw materials: BAM 2,418,816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damage (lost profit): BAM 1,624,18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Investments in econo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 : BAM 3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21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10" descr="luka-brcko-07042011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3860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okbrsko-preview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4005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4076640"/>
            <a:ext cx="8353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municipal infrastructur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,638,600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y and sewerage: BAM 2,33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waste: BAM 84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ctricity facilities: B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463,6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brcko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37576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971640" y="393372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 municipal infrastruc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900000" y="4581360"/>
            <a:ext cx="763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42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36572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amages caused to housing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 fun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: BAM 16,603,000.00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-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722 individual housing unit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7" descr="Avdić Rajfa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53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struction of individual housing uni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3,000,000.00 (reconstruction of 722 individual housing uni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Avdić Rajfa (1)"/>
          <p:cNvPicPr/>
          <p:nvPr/>
        </p:nvPicPr>
        <p:blipFill>
          <a:blip r:embed="rId1"/>
          <a:stretch/>
        </p:blipFill>
        <p:spPr>
          <a:xfrm>
            <a:off x="2484360" y="620640"/>
            <a:ext cx="620244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943308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 far BAM 30,658,894.00 has been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ed and provided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18,358,66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to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omin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jects through the BD of B&amp;H institutions: BAM 44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citizens: BAM 29,52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B&amp;H: BAM 271,60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7,150,000.00 – WBG/I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 : BAM 3,729,097 - MM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map of the flooded and mined are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2014 FLOO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damages caused by 2014 floods: BAM 53,993,908.00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funds invested and provided so far: BAM 30,658,89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necessary to provide: BAM 23,335,01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Thank you for atten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tal damage: BAM 53,993,908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agriculture, forestry and water management: BAM 22,443,505.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road infrastructure: BAM 3,598,278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by landslides: BAM 667,525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damages: BAM 4,04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municipal infrastructure: BAM 6,638,6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housing fund: BAM 16,60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poplave_Brcko_nasip_probijen_394679875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-360" y="5013360"/>
            <a:ext cx="9396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Damages caused to agriculture, forestfy and water managment: BAM 22,443,505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riculture: BAM 7,441,61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terinary services: BAM 119,028.0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: BAM 14,833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stry: BAM 48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poplava-donja-skakava-642x336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IMG_0685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3716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stments in rehabilitation and prevention in agriculture, forestry and water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 flipV="1" rot="10797600">
            <a:off x="672480" y="4868640"/>
            <a:ext cx="785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7,334,492.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6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8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nstruction of water-gat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 the Sava River embankment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BD of B&amp;H Budget: BAM 1,108,947.00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C:\Users\Win7\Desktop\LJILJA\ŠTETE OD POPLAVA MAJ , AUGUST\SLIKE UZ PODATKE O ŠTETAMA II\Izgradnja nove ustave na mjestu porušene ustave u Vučilovcu\Izgradnja ustave u Vučilovcu ( 3).JPG"/>
          <p:cNvPicPr/>
          <p:nvPr/>
        </p:nvPicPr>
        <p:blipFill>
          <a:blip r:embed="rId1"/>
          <a:stretch/>
        </p:blipFill>
        <p:spPr>
          <a:xfrm>
            <a:off x="4859280" y="1989000"/>
            <a:ext cx="4033800" cy="312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DSC_1185"/>
          <p:cNvPicPr/>
          <p:nvPr/>
        </p:nvPicPr>
        <p:blipFill>
          <a:blip r:embed="rId2"/>
          <a:stretch/>
        </p:blipFill>
        <p:spPr>
          <a:xfrm>
            <a:off x="179280" y="1989000"/>
            <a:ext cx="4248360" cy="3119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450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508640"/>
            <a:ext cx="86421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road infrastructur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3,598,27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km of road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893,27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bridge: BAM 1,70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ADIKIB~1\AppData\Local\Temp\notesC7A056\Most Islamovac2.jpg"/>
          <p:cNvPicPr/>
          <p:nvPr/>
        </p:nvPicPr>
        <p:blipFill>
          <a:blip r:embed="rId1"/>
          <a:stretch/>
        </p:blipFill>
        <p:spPr>
          <a:xfrm>
            <a:off x="684360" y="1268280"/>
            <a:ext cx="4824360" cy="4537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to road infrastructu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35280" y="162864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 1,331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000,000.00 from WB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: BAM 10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8:57:06Z</dcterms:created>
  <dc:creator>Veselin 2</dc:creator>
  <dc:description/>
  <dc:language>en-US</dc:language>
  <cp:lastModifiedBy>operater</cp:lastModifiedBy>
  <dcterms:modified xsi:type="dcterms:W3CDTF">2015-09-30T08:51:48Z</dcterms:modified>
  <cp:revision>52</cp:revision>
  <dc:subject/>
  <dc:title>POPLAVE 2014 VLADA BRČKO DISTRIKTA BIH</dc:title>
</cp:coreProperties>
</file>